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hyperlink" Target="file:///../&#20864;&#25945;&#29256;&#25968;&#23398;&#20061;&#24180;&#32423;&#19978;&#20876;&#26234;&#33021;&#22810;&#23186;&#20307;&#35838;&#20214;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3091" t="7318" r="2378" b="4236"/>
          <a:stretch/>
        </p:blipFill>
        <p:spPr>
          <a:xfrm>
            <a:off x="282600" y="501480"/>
            <a:ext cx="8643960" cy="6066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81130" t="64982" r="2811" b="3659"/>
          <a:stretch/>
        </p:blipFill>
        <p:spPr>
          <a:xfrm>
            <a:off x="7559640" y="4673520"/>
            <a:ext cx="1276560" cy="18702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rcRect l="84224" t="83963" r="0" b="0"/>
          <a:stretch/>
        </p:blipFill>
        <p:spPr>
          <a:xfrm>
            <a:off x="7759800" y="5757840"/>
            <a:ext cx="1384200" cy="1055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rcRect l="5394" t="18913" r="84657" b="66525"/>
          <a:stretch/>
        </p:blipFill>
        <p:spPr>
          <a:xfrm rot="7474800">
            <a:off x="7725240" y="3483360"/>
            <a:ext cx="1449360" cy="15904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rcRect l="5665" t="23612" r="89406" b="67244"/>
          <a:stretch/>
        </p:blipFill>
        <p:spPr>
          <a:xfrm>
            <a:off x="8340840" y="2631960"/>
            <a:ext cx="550800" cy="766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8"/>
          <a:srcRect l="5665" t="23612" r="89406" b="67244"/>
          <a:stretch/>
        </p:blipFill>
        <p:spPr>
          <a:xfrm rot="20877600">
            <a:off x="7861320" y="3954240"/>
            <a:ext cx="550800" cy="766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rcRect l="5665" t="23612" r="89406" b="67244"/>
          <a:stretch/>
        </p:blipFill>
        <p:spPr>
          <a:xfrm flipH="1" rot="20872800">
            <a:off x="8342280" y="2066760"/>
            <a:ext cx="492120" cy="7066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rcRect l="5665" t="23612" r="89406" b="67244"/>
          <a:stretch/>
        </p:blipFill>
        <p:spPr>
          <a:xfrm flipH="1" rot="618000">
            <a:off x="8043840" y="4673160"/>
            <a:ext cx="608040" cy="873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1"/>
          <a:srcRect l="5665" t="23612" r="89406" b="67244"/>
          <a:stretch/>
        </p:blipFill>
        <p:spPr>
          <a:xfrm flipH="1" rot="20875200">
            <a:off x="8329680" y="1750680"/>
            <a:ext cx="287280" cy="4125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>
            <a:hlinkClick r:id="rId12"/>
          </p:cNvPr>
          <p:cNvPicPr/>
          <p:nvPr/>
        </p:nvPicPr>
        <p:blipFill>
          <a:blip r:embed="rId13"/>
          <a:srcRect l="70717" t="0" r="0" b="91743"/>
          <a:stretch/>
        </p:blipFill>
        <p:spPr>
          <a:xfrm>
            <a:off x="6593040" y="44280"/>
            <a:ext cx="2471760" cy="52236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4"/>
          <a:srcRect l="5394" t="18913" r="84657" b="66525"/>
          <a:stretch/>
        </p:blipFill>
        <p:spPr>
          <a:xfrm rot="7474800">
            <a:off x="325800" y="699120"/>
            <a:ext cx="671400" cy="7365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5"/>
          <a:srcRect l="5665" t="23612" r="89406" b="67244"/>
          <a:stretch/>
        </p:blipFill>
        <p:spPr>
          <a:xfrm rot="447000">
            <a:off x="394920" y="1035000"/>
            <a:ext cx="351000" cy="488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6"/>
          <a:srcRect l="5665" t="23612" r="89406" b="67244"/>
          <a:stretch/>
        </p:blipFill>
        <p:spPr>
          <a:xfrm flipH="1" rot="16633200">
            <a:off x="906840" y="604800"/>
            <a:ext cx="320760" cy="46008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7"/>
          <a:srcRect l="5665" t="23612" r="89406" b="67244"/>
          <a:stretch/>
        </p:blipFill>
        <p:spPr>
          <a:xfrm flipH="1" rot="5455200">
            <a:off x="1474920" y="561600"/>
            <a:ext cx="225360" cy="32400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8"/>
          <a:srcRect l="84169" t="82226" r="4583" b="4446"/>
          <a:stretch/>
        </p:blipFill>
        <p:spPr>
          <a:xfrm>
            <a:off x="7696080" y="5638680"/>
            <a:ext cx="1028880" cy="9144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框"/>
          <p:cNvPicPr/>
          <p:nvPr/>
        </p:nvPicPr>
        <p:blipFill>
          <a:blip r:embed="rId1"/>
          <a:stretch/>
        </p:blipFill>
        <p:spPr>
          <a:xfrm>
            <a:off x="2290680" y="2801880"/>
            <a:ext cx="4810320" cy="1114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114640" y="3000240"/>
            <a:ext cx="51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8.4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垂径定理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*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95880" y="701640"/>
            <a:ext cx="2676600" cy="488880"/>
            <a:chOff x="6095880" y="701640"/>
            <a:chExt cx="2676600" cy="488880"/>
          </a:xfrm>
        </p:grpSpPr>
        <p:pic>
          <p:nvPicPr>
            <p:cNvPr id="57" name="Picture 4" descr="提示"/>
            <p:cNvPicPr/>
            <p:nvPr/>
          </p:nvPicPr>
          <p:blipFill>
            <a:blip r:embed="rId2"/>
            <a:stretch/>
          </p:blipFill>
          <p:spPr>
            <a:xfrm>
              <a:off x="6095880" y="838080"/>
              <a:ext cx="259092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" descr="11468523_205544212133_21"/>
            <p:cNvPicPr/>
            <p:nvPr/>
          </p:nvPicPr>
          <p:blipFill>
            <a:blip r:embed="rId3"/>
            <a:stretch/>
          </p:blipFill>
          <p:spPr>
            <a:xfrm>
              <a:off x="8315280" y="70164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76160" y="720720"/>
            <a:ext cx="74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图叙述垂径定理，并说出定理的题设和结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0320" y="1330200"/>
            <a:ext cx="5687640" cy="532800"/>
            <a:chOff x="1300320" y="1330200"/>
            <a:chExt cx="5687640" cy="532800"/>
          </a:xfrm>
        </p:grpSpPr>
        <p:sp>
          <p:nvSpPr>
            <p:cNvPr id="312" name=""/>
            <p:cNvSpPr/>
            <p:nvPr/>
          </p:nvSpPr>
          <p:spPr>
            <a:xfrm>
              <a:off x="1300320" y="1403280"/>
              <a:ext cx="10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题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25600" y="1330200"/>
              <a:ext cx="10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结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55640" y="1855800"/>
            <a:ext cx="3997080" cy="1290240"/>
            <a:chOff x="755640" y="1855800"/>
            <a:chExt cx="3997080" cy="1290240"/>
          </a:xfrm>
        </p:grpSpPr>
        <p:sp>
          <p:nvSpPr>
            <p:cNvPr id="315" name=""/>
            <p:cNvSpPr/>
            <p:nvPr/>
          </p:nvSpPr>
          <p:spPr>
            <a:xfrm>
              <a:off x="755640" y="1855800"/>
              <a:ext cx="39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①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直线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CD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经过圆心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2000" y="2503440"/>
              <a:ext cx="39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②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直线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CD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垂直弦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183280" y="1596960"/>
            <a:ext cx="3960720" cy="1650600"/>
            <a:chOff x="5183280" y="1596960"/>
            <a:chExt cx="3960720" cy="1650600"/>
          </a:xfrm>
        </p:grpSpPr>
        <p:sp>
          <p:nvSpPr>
            <p:cNvPr id="318" name=""/>
            <p:cNvSpPr/>
            <p:nvPr/>
          </p:nvSpPr>
          <p:spPr>
            <a:xfrm>
              <a:off x="5183280" y="1596960"/>
              <a:ext cx="39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③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直线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CD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平分弦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3280" y="2100240"/>
              <a:ext cx="39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④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直线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CD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平分弧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AC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83280" y="2604960"/>
              <a:ext cx="39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⑤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直线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CD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平分弧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722760" y="1954080"/>
            <a:ext cx="144360" cy="1079640"/>
          </a:xfrm>
          <a:custGeom>
            <a:avLst/>
            <a:gdLst>
              <a:gd name="textAreaLeft" fmla="*/ 0 w 144360"/>
              <a:gd name="textAreaRight" fmla="*/ 52200 w 144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30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32360" y="1849320"/>
            <a:ext cx="216000" cy="12304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2040 h 1230480"/>
              <a:gd name="textAreaBottom" fmla="*/ 1198440 h 12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30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00400" y="2409840"/>
            <a:ext cx="649440" cy="144360"/>
          </a:xfrm>
          <a:prstGeom prst="rightArrow">
            <a:avLst>
              <a:gd name="adj1" fmla="val 50000"/>
              <a:gd name="adj2" fmla="val 1124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319716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想一想：如果将题设和结论中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条件适当互换，情况会怎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8040" y="4408560"/>
            <a:ext cx="4964040" cy="2009520"/>
            <a:chOff x="608040" y="4408560"/>
            <a:chExt cx="4964040" cy="2009520"/>
          </a:xfrm>
        </p:grpSpPr>
        <p:sp>
          <p:nvSpPr>
            <p:cNvPr id="326" name=""/>
            <p:cNvSpPr/>
            <p:nvPr/>
          </p:nvSpPr>
          <p:spPr>
            <a:xfrm>
              <a:off x="608040" y="4408560"/>
              <a:ext cx="4964040" cy="2009520"/>
            </a:xfrm>
            <a:prstGeom prst="horizontalScroll">
              <a:avLst>
                <a:gd name="adj" fmla="val 5194"/>
              </a:avLst>
            </a:prstGeom>
            <a:gradFill rotWithShape="0">
              <a:gsLst>
                <a:gs pos="0">
                  <a:srgbClr val="fafcfe"/>
                </a:gs>
                <a:gs pos="50000">
                  <a:srgbClr val="99ccff"/>
                </a:gs>
                <a:gs pos="100000">
                  <a:srgbClr val="fafc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5480" y="4656960"/>
              <a:ext cx="625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① 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25520" y="4699440"/>
              <a:ext cx="61920" cy="421200"/>
            </a:xfrm>
            <a:custGeom>
              <a:avLst/>
              <a:gdLst>
                <a:gd name="textAreaLeft" fmla="*/ 0 w 61920"/>
                <a:gd name="textAreaRight" fmla="*/ 22320 w 61920"/>
                <a:gd name="textAreaTop" fmla="*/ 10800 h 421200"/>
                <a:gd name="textAreaBottom" fmla="*/ 41040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12720" y="4890600"/>
              <a:ext cx="686160" cy="75600"/>
            </a:xfrm>
            <a:prstGeom prst="rightArrow">
              <a:avLst>
                <a:gd name="adj1" fmla="val 50000"/>
                <a:gd name="adj2" fmla="val 226905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62240" y="4586040"/>
              <a:ext cx="61920" cy="686520"/>
            </a:xfrm>
            <a:custGeom>
              <a:avLst/>
              <a:gdLst>
                <a:gd name="textAreaLeft" fmla="*/ 39600 w 61920"/>
                <a:gd name="textAreaRight" fmla="*/ 62280 w 61920"/>
                <a:gd name="textAreaTop" fmla="*/ 17640 h 686520"/>
                <a:gd name="textAreaBottom" fmla="*/ 668880 h 68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87520" y="4548960"/>
              <a:ext cx="49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②④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0400" y="4656960"/>
              <a:ext cx="6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② 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99000" y="4699440"/>
              <a:ext cx="61920" cy="421200"/>
            </a:xfrm>
            <a:custGeom>
              <a:avLst/>
              <a:gdLst>
                <a:gd name="textAreaLeft" fmla="*/ 0 w 61920"/>
                <a:gd name="textAreaRight" fmla="*/ 22320 w 61920"/>
                <a:gd name="textAreaTop" fmla="*/ 10800 h 421200"/>
                <a:gd name="textAreaBottom" fmla="*/ 41040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86200" y="4890600"/>
              <a:ext cx="685800" cy="75600"/>
            </a:xfrm>
            <a:prstGeom prst="rightArrow">
              <a:avLst>
                <a:gd name="adj1" fmla="val 50000"/>
                <a:gd name="adj2" fmla="val 226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35360" y="4586040"/>
              <a:ext cx="61920" cy="686520"/>
            </a:xfrm>
            <a:custGeom>
              <a:avLst/>
              <a:gdLst>
                <a:gd name="textAreaLeft" fmla="*/ 39600 w 61920"/>
                <a:gd name="textAreaRight" fmla="*/ 62280 w 61920"/>
                <a:gd name="textAreaTop" fmla="*/ 17640 h 686520"/>
                <a:gd name="textAreaBottom" fmla="*/ 668880 h 68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59200" y="4548960"/>
              <a:ext cx="49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①  ④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5480" y="5496480"/>
              <a:ext cx="625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① 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25520" y="5540040"/>
              <a:ext cx="61920" cy="419400"/>
            </a:xfrm>
            <a:custGeom>
              <a:avLst/>
              <a:gdLst>
                <a:gd name="textAreaLeft" fmla="*/ 0 w 61920"/>
                <a:gd name="textAreaRight" fmla="*/ 22320 w 61920"/>
                <a:gd name="textAreaTop" fmla="*/ 10800 h 419400"/>
                <a:gd name="textAreaBottom" fmla="*/ 408600 h 4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2720" y="5731200"/>
              <a:ext cx="686160" cy="76320"/>
            </a:xfrm>
            <a:prstGeom prst="rightArrow">
              <a:avLst>
                <a:gd name="adj1" fmla="val 50000"/>
                <a:gd name="adj2" fmla="val 224764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62240" y="5424840"/>
              <a:ext cx="61920" cy="686880"/>
            </a:xfrm>
            <a:custGeom>
              <a:avLst/>
              <a:gdLst>
                <a:gd name="textAreaLeft" fmla="*/ 39600 w 61920"/>
                <a:gd name="textAreaRight" fmla="*/ 62280 w 61920"/>
                <a:gd name="textAreaTop" fmla="*/ 17640 h 686880"/>
                <a:gd name="textAreaBottom" fmla="*/ 669240 h 68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87520" y="5386320"/>
              <a:ext cx="49716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②③</a:t>
              </a:r>
              <a:r>
                <a:rPr b="1" lang="zh-CN" sz="1800" spc="-1" strike="noStrike">
                  <a:solidFill>
                    <a:srgbClr val="000000"/>
                  </a:solidFill>
                  <a:latin typeface="Verdana"/>
                </a:rPr>
                <a:t>⑤</a:t>
              </a:r>
              <a:r>
                <a:rPr b="0" lang="zh-CN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71880" y="5496480"/>
              <a:ext cx="62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②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73360" y="5540040"/>
              <a:ext cx="61920" cy="419400"/>
            </a:xfrm>
            <a:custGeom>
              <a:avLst/>
              <a:gdLst>
                <a:gd name="textAreaLeft" fmla="*/ 0 w 61920"/>
                <a:gd name="textAreaRight" fmla="*/ 22320 w 61920"/>
                <a:gd name="textAreaTop" fmla="*/ 10800 h 419400"/>
                <a:gd name="textAreaBottom" fmla="*/ 408600 h 4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60920" y="5731200"/>
              <a:ext cx="687240" cy="76320"/>
            </a:xfrm>
            <a:prstGeom prst="rightArrow">
              <a:avLst>
                <a:gd name="adj1" fmla="val 50000"/>
                <a:gd name="adj2" fmla="val 22511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10080" y="5424840"/>
              <a:ext cx="61920" cy="686880"/>
            </a:xfrm>
            <a:custGeom>
              <a:avLst/>
              <a:gdLst>
                <a:gd name="textAreaLeft" fmla="*/ 39600 w 61920"/>
                <a:gd name="textAreaRight" fmla="*/ 62280 w 61920"/>
                <a:gd name="textAreaTop" fmla="*/ 17640 h 686880"/>
                <a:gd name="textAreaBottom" fmla="*/ 669240 h 68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35360" y="5386320"/>
              <a:ext cx="49716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Verdana"/>
                </a:rPr>
                <a:t>① ③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omic Sans MS"/>
                </a:rPr>
                <a:t>⑤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76360" y="4448160"/>
            <a:ext cx="4968720" cy="1935000"/>
            <a:chOff x="576360" y="4448160"/>
            <a:chExt cx="4968720" cy="1935000"/>
          </a:xfrm>
        </p:grpSpPr>
        <p:sp>
          <p:nvSpPr>
            <p:cNvPr id="348" name=""/>
            <p:cNvSpPr/>
            <p:nvPr/>
          </p:nvSpPr>
          <p:spPr>
            <a:xfrm>
              <a:off x="576360" y="4448160"/>
              <a:ext cx="4968720" cy="1935000"/>
            </a:xfrm>
            <a:prstGeom prst="horizontalScroll">
              <a:avLst>
                <a:gd name="adj" fmla="val 5194"/>
              </a:avLst>
            </a:prstGeom>
            <a:gradFill rotWithShape="0">
              <a:gsLst>
                <a:gs pos="0">
                  <a:srgbClr val="fafcfe"/>
                </a:gs>
                <a:gs pos="50000">
                  <a:srgbClr val="99ccff"/>
                </a:gs>
                <a:gs pos="100000">
                  <a:srgbClr val="fafc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88880" y="4778280"/>
              <a:ext cx="61920" cy="405000"/>
            </a:xfrm>
            <a:custGeom>
              <a:avLst/>
              <a:gdLst>
                <a:gd name="textAreaLeft" fmla="*/ 0 w 61920"/>
                <a:gd name="textAreaRight" fmla="*/ 22320 w 61920"/>
                <a:gd name="textAreaTop" fmla="*/ 10440 h 405000"/>
                <a:gd name="textAreaBottom" fmla="*/ 39456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93640" y="5022720"/>
              <a:ext cx="687600" cy="74520"/>
            </a:xfrm>
            <a:prstGeom prst="rightArrow">
              <a:avLst>
                <a:gd name="adj1" fmla="val 50000"/>
                <a:gd name="adj2" fmla="val 23067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44600" y="4728960"/>
              <a:ext cx="61920" cy="662040"/>
            </a:xfrm>
            <a:custGeom>
              <a:avLst/>
              <a:gdLst>
                <a:gd name="textAreaLeft" fmla="*/ 39600 w 61920"/>
                <a:gd name="textAreaRight" fmla="*/ 62280 w 61920"/>
                <a:gd name="textAreaTop" fmla="*/ 16920 h 662040"/>
                <a:gd name="textAreaBottom" fmla="*/ 64512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68440" y="4473360"/>
              <a:ext cx="500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omic Sans MS"/>
                  <a:ea typeface="楷体_GB2312"/>
                </a:rPr>
                <a:t>①②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32280" y="5022720"/>
              <a:ext cx="687240" cy="74520"/>
            </a:xfrm>
            <a:prstGeom prst="rightArrow">
              <a:avLst>
                <a:gd name="adj1" fmla="val 50000"/>
                <a:gd name="adj2" fmla="val 23055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83240" y="4728960"/>
              <a:ext cx="61920" cy="662040"/>
            </a:xfrm>
            <a:custGeom>
              <a:avLst/>
              <a:gdLst>
                <a:gd name="textAreaLeft" fmla="*/ 39600 w 61920"/>
                <a:gd name="textAreaRight" fmla="*/ 62280 w 61920"/>
                <a:gd name="textAreaTop" fmla="*/ 16920 h 662040"/>
                <a:gd name="textAreaBottom" fmla="*/ 64512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54520" y="4621320"/>
              <a:ext cx="498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Comic Sans MS"/>
                  <a:ea typeface="楷体_GB2312"/>
                </a:rPr>
                <a:t>①②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66880" y="5527440"/>
              <a:ext cx="62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omic Sans MS"/>
                  <a:ea typeface="楷体_GB2312"/>
                </a:rPr>
                <a:t>④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06440" y="5684760"/>
              <a:ext cx="61920" cy="403200"/>
            </a:xfrm>
            <a:custGeom>
              <a:avLst/>
              <a:gdLst>
                <a:gd name="textAreaLeft" fmla="*/ 0 w 61920"/>
                <a:gd name="textAreaRight" fmla="*/ 22320 w 61920"/>
                <a:gd name="textAreaTop" fmla="*/ 10440 h 403200"/>
                <a:gd name="textAreaBottom" fmla="*/ 39276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93640" y="5869080"/>
              <a:ext cx="687600" cy="72720"/>
            </a:xfrm>
            <a:prstGeom prst="rightArrow">
              <a:avLst>
                <a:gd name="adj1" fmla="val 50000"/>
                <a:gd name="adj2" fmla="val 2363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4600" y="5573520"/>
              <a:ext cx="61920" cy="662040"/>
            </a:xfrm>
            <a:custGeom>
              <a:avLst/>
              <a:gdLst>
                <a:gd name="textAreaLeft" fmla="*/ 39600 w 61920"/>
                <a:gd name="textAreaRight" fmla="*/ 62280 w 61920"/>
                <a:gd name="textAreaTop" fmla="*/ 16920 h 662040"/>
                <a:gd name="textAreaBottom" fmla="*/ 64512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8440" y="5538600"/>
              <a:ext cx="500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omic Sans MS"/>
                  <a:ea typeface="楷体_GB2312"/>
                </a:rPr>
                <a:t>①②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57160" y="4641840"/>
              <a:ext cx="62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Comic Sans MS"/>
                  <a:ea typeface="楷体_GB2312"/>
                </a:rPr>
                <a:t>③④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84640" y="4908600"/>
              <a:ext cx="62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Comic Sans MS"/>
                  <a:ea typeface="楷体_GB2312"/>
                </a:rPr>
                <a:t>③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14840" y="5072040"/>
              <a:ext cx="61920" cy="403200"/>
            </a:xfrm>
            <a:custGeom>
              <a:avLst/>
              <a:gdLst>
                <a:gd name="textAreaLeft" fmla="*/ 0 w 61920"/>
                <a:gd name="textAreaRight" fmla="*/ 22320 w 61920"/>
                <a:gd name="textAreaTop" fmla="*/ 10440 h 403200"/>
                <a:gd name="textAreaBottom" fmla="*/ 39276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30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891760" y="3494160"/>
            <a:ext cx="2587680" cy="2200320"/>
            <a:chOff x="5891760" y="3494160"/>
            <a:chExt cx="2587680" cy="2200320"/>
          </a:xfrm>
        </p:grpSpPr>
        <p:sp>
          <p:nvSpPr>
            <p:cNvPr id="365" name=""/>
            <p:cNvSpPr/>
            <p:nvPr/>
          </p:nvSpPr>
          <p:spPr>
            <a:xfrm>
              <a:off x="6081840" y="3494160"/>
              <a:ext cx="2200320" cy="2200320"/>
            </a:xfrm>
            <a:prstGeom prst="ellipse">
              <a:avLst/>
            </a:prstGeom>
            <a:noFill/>
            <a:ln w="158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1840" y="4583160"/>
              <a:ext cx="2192040" cy="7920"/>
            </a:xfrm>
            <a:prstGeom prst="line">
              <a:avLst/>
            </a:prstGeom>
            <a:ln w="158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8037360" y="3913200"/>
              <a:ext cx="7920" cy="1362240"/>
            </a:xfrm>
            <a:prstGeom prst="line">
              <a:avLst/>
            </a:prstGeom>
            <a:ln w="158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62920" y="457524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85600" y="457524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23320" y="525924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54280" y="529128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67440" y="456732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91760" y="452124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258040" y="457524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49120" y="450684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31240" y="389736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56800" y="363204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31240" y="457524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55560" y="425592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704880" y="1322280"/>
            <a:ext cx="4753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平分弦（不是直径）的直径垂直于弦，并且平分弦所对的两条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弦的垂直平分线经过圆心，并且平分弦所对的两条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平分弦所对的一条弧的直径，垂直平分弦并且平分弦所对的另一条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089000" y="846000"/>
            <a:ext cx="1253880" cy="481320"/>
            <a:chOff x="1089000" y="846000"/>
            <a:chExt cx="1253880" cy="481320"/>
          </a:xfrm>
        </p:grpSpPr>
        <p:sp>
          <p:nvSpPr>
            <p:cNvPr id="382" name=""/>
            <p:cNvSpPr/>
            <p:nvPr/>
          </p:nvSpPr>
          <p:spPr>
            <a:xfrm>
              <a:off x="1089000" y="865080"/>
              <a:ext cx="1106280" cy="46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lin ang="5400000"/>
            </a:gradFill>
            <a:ln w="19080">
              <a:solidFill>
                <a:srgbClr val="ff0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2080" y="846000"/>
              <a:ext cx="118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推论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859720" y="2448000"/>
            <a:ext cx="2316240" cy="1962000"/>
            <a:chOff x="5859720" y="2448000"/>
            <a:chExt cx="2316240" cy="1962000"/>
          </a:xfrm>
        </p:grpSpPr>
        <p:sp>
          <p:nvSpPr>
            <p:cNvPr id="385" name=""/>
            <p:cNvSpPr/>
            <p:nvPr/>
          </p:nvSpPr>
          <p:spPr>
            <a:xfrm>
              <a:off x="6029280" y="2448000"/>
              <a:ext cx="1963800" cy="1962000"/>
            </a:xfrm>
            <a:prstGeom prst="ellipse">
              <a:avLst/>
            </a:prstGeom>
            <a:noFill/>
            <a:ln w="144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29280" y="3419640"/>
              <a:ext cx="1955880" cy="6120"/>
            </a:xfrm>
            <a:prstGeom prst="line">
              <a:avLst/>
            </a:prstGeom>
            <a:ln w="144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7775280" y="2820960"/>
              <a:ext cx="6120" cy="1216080"/>
            </a:xfrm>
            <a:prstGeom prst="line">
              <a:avLst/>
            </a:prstGeom>
            <a:ln w="144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94440" y="3411360"/>
              <a:ext cx="33480" cy="35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3160" y="341136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61240" y="4022640"/>
              <a:ext cx="34920" cy="349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88600" y="40496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14880" y="3405240"/>
              <a:ext cx="34920" cy="33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59720" y="33638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72560" y="3411360"/>
              <a:ext cx="33120" cy="35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53200" y="33512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69160" y="2808360"/>
              <a:ext cx="33480" cy="33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91120" y="257004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411360"/>
              <a:ext cx="33480" cy="352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12560" y="312732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EU-BX"/>
                  <a:ea typeface="EU-BX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66720" y="3525120"/>
            <a:ext cx="82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如图，已知⊙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直径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弦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C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于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下列结论中一定正确的是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078600" y="3965400"/>
            <a:ext cx="2041560" cy="1881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682560" y="449424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E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E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  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CE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DE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1868400" y="4938840"/>
          <a:ext cx="292320" cy="65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68400" y="4938840"/>
                    <a:ext cx="2923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"/>
          <p:cNvSpPr/>
          <p:nvPr/>
        </p:nvSpPr>
        <p:spPr>
          <a:xfrm>
            <a:off x="2098800" y="503928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EU-BX"/>
                <a:ea typeface="EU-BX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5440" y="50641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E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13200" y="4978440"/>
            <a:ext cx="29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∠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O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21280" y="3959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120" y="1504440"/>
            <a:ext cx="79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已知⊙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半径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弦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弦心距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则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长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.3     B.4    C.6    D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40880" y="218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992160" y="819000"/>
            <a:ext cx="2771640" cy="6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92280" y="1279440"/>
            <a:ext cx="74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如图，⊙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过点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圆心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等腰直角△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内部，∠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BA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B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则⊙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半径为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.        B.         C.         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延长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点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连接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O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对称性知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⊥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则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B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D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△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等腰直角三角形，∠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B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°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则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    =3,∴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O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-1=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O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834240" y="2614680"/>
            <a:ext cx="1941480" cy="1765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5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20840" y="3036960"/>
                <a:ext cx="4176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0" y="5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676600" y="2952720"/>
                <a:ext cx="460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0" y="5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349880" y="2944800"/>
                <a:ext cx="5014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0" y="5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6032520" y="2962440"/>
                <a:ext cx="576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0" y="5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1646280" y="5181480"/>
          <a:ext cx="736560" cy="6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6280" y="5181480"/>
                    <a:ext cx="7365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0" y="52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1677960" y="5873760"/>
          <a:ext cx="1251000" cy="45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7960" y="5873760"/>
                    <a:ext cx="12510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671400" y="2624040"/>
          <a:ext cx="7570800" cy="2284560"/>
        </p:xfrm>
        <a:graphic>
          <a:graphicData uri="http://schemas.openxmlformats.org/drawingml/2006/table">
            <a:tbl>
              <a:tblPr/>
              <a:tblGrid>
                <a:gridCol w="757080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楷体_GB2312"/>
                          <a:ea typeface="楷体_GB2312"/>
                        </a:rPr>
                        <a:t>【解析】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如图所示，连接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EU-BX"/>
                          <a:ea typeface="EU-BX"/>
                        </a:rPr>
                        <a:t>OB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，则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EU-BX"/>
                          <a:ea typeface="EU-BX"/>
                        </a:rPr>
                        <a:t>OB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=5,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EU-BX"/>
                          <a:ea typeface="EU-BX"/>
                        </a:rPr>
                        <a:t>OD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=4,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利用勾股定理求得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EU-BX"/>
                          <a:ea typeface="EU-BX"/>
                        </a:rPr>
                        <a:t>BD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=3,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因为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EU-BX"/>
                          <a:ea typeface="EU-BX"/>
                        </a:rPr>
                        <a:t>OC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⊥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EU-BX"/>
                          <a:ea typeface="EU-BX"/>
                        </a:rPr>
                        <a:t>AB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于点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EU-BX"/>
                          <a:ea typeface="EU-BX"/>
                        </a:rPr>
                        <a:t>D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，所以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EU-BX"/>
                          <a:ea typeface="EU-BX"/>
                        </a:rPr>
                        <a:t>AD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=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EU-BX"/>
                          <a:ea typeface="EU-BX"/>
                        </a:rPr>
                        <a:t>BD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=3,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所以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EU-BX"/>
                          <a:ea typeface="EU-BX"/>
                        </a:rPr>
                        <a:t>AB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=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楷体_GB2312"/>
                          <a:ea typeface="楷体_GB2312"/>
                        </a:rPr>
                        <a:t>答案：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698400" y="1258920"/>
            <a:ext cx="7915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如图，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⊙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弦，⊙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半径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⊥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于点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交⊙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于点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且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C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l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则弦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长是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166920" y="3914640"/>
            <a:ext cx="2602080" cy="24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1120" y="1359000"/>
            <a:ext cx="7893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已知：如图，在以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心的两个同心圆中，大圆的弦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交小圆于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两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求证：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B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证明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O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⊥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垂足为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则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B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C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D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C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B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D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B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191360" y="2841480"/>
            <a:ext cx="11160" cy="635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00760" y="301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-BX"/>
                <a:ea typeface="EU-BX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22920" y="1571760"/>
            <a:ext cx="2895480" cy="2895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8720" y="2257560"/>
            <a:ext cx="152388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064280" y="2536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-BX"/>
                <a:ea typeface="EU-BX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99240" y="34765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8000" y="32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-BX"/>
                <a:ea typeface="EU-BX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56440" y="3400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-BX"/>
                <a:ea typeface="EU-BX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04000" y="3400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-BX"/>
                <a:ea typeface="EU-BX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542440" y="32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-BX"/>
                <a:ea typeface="EU-BX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42040" y="2498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-BX"/>
                <a:ea typeface="EU-BX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6"/>
          <p:cNvSpPr/>
          <p:nvPr/>
        </p:nvSpPr>
        <p:spPr>
          <a:xfrm>
            <a:off x="584280" y="1554120"/>
            <a:ext cx="7014960" cy="29512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本课时的学习，需要我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理解圆的轴对称性及垂径定理的推理过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能初步应用垂径定理进行计算和证明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掌握垂径定理的推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明确理解“知二得三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意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利用垂径定理及其推论解决相应的数学问题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411120" y="5541840"/>
            <a:ext cx="7099200" cy="97812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3132000" y="758880"/>
            <a:ext cx="2952720" cy="666720"/>
            <a:chOff x="3132000" y="758880"/>
            <a:chExt cx="2952720" cy="666720"/>
          </a:xfrm>
        </p:grpSpPr>
        <p:sp>
          <p:nvSpPr>
            <p:cNvPr id="446" name="Text Box 4"/>
            <p:cNvSpPr/>
            <p:nvPr/>
          </p:nvSpPr>
          <p:spPr>
            <a:xfrm>
              <a:off x="3800520" y="758880"/>
              <a:ext cx="177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宋体"/>
                </a:rPr>
                <a:t>小  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5"/>
            <p:cNvSpPr/>
            <p:nvPr/>
          </p:nvSpPr>
          <p:spPr>
            <a:xfrm>
              <a:off x="3132000" y="1425600"/>
              <a:ext cx="2952720" cy="0"/>
            </a:xfrm>
            <a:prstGeom prst="line">
              <a:avLst/>
            </a:prstGeom>
            <a:ln cap="rnd" w="28440">
              <a:solidFill>
                <a:srgbClr val="990099"/>
              </a:solidFill>
              <a:custDash>
                <a:ds d="100000" sp="1000"/>
              </a:custDash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6"/>
            <p:cNvSpPr/>
            <p:nvPr/>
          </p:nvSpPr>
          <p:spPr>
            <a:xfrm>
              <a:off x="3132000" y="797040"/>
              <a:ext cx="2952720" cy="0"/>
            </a:xfrm>
            <a:prstGeom prst="line">
              <a:avLst/>
            </a:prstGeom>
            <a:ln cap="rnd" w="28440">
              <a:solidFill>
                <a:srgbClr val="990099"/>
              </a:solidFill>
              <a:custDash>
                <a:ds d="100000" sp="1000"/>
              </a:custDash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49880" y="1799280"/>
            <a:ext cx="600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圆的轴对称性及垂径定理的推证过程；能初步应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垂径定理进行计算和证明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一步培养学生观察问题、分析问题和解决问题的能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圆的对称性，培养学生对数学的审美观，并激发学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数学的热爱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童趣"/>
          <p:cNvPicPr/>
          <p:nvPr/>
        </p:nvPicPr>
        <p:blipFill>
          <a:blip r:embed="rId1"/>
          <a:stretch/>
        </p:blipFill>
        <p:spPr>
          <a:xfrm>
            <a:off x="2627280" y="817560"/>
            <a:ext cx="3888000" cy="11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74840" y="34448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想一想：如果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⊙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沿着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C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所在直线对折，哪些线段重合，哪些弧重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42920" y="84312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起探究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628560" y="5214960"/>
            <a:ext cx="76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猜想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直于弦的直径平分这条弦，并且平分这条弦所对的两条弧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69880" y="2317680"/>
            <a:ext cx="4648320" cy="7304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6188760" y="1409760"/>
            <a:ext cx="2576520" cy="2163600"/>
            <a:chOff x="6188760" y="1409760"/>
            <a:chExt cx="2576520" cy="2163600"/>
          </a:xfrm>
        </p:grpSpPr>
        <p:sp>
          <p:nvSpPr>
            <p:cNvPr id="66" name=""/>
            <p:cNvSpPr/>
            <p:nvPr/>
          </p:nvSpPr>
          <p:spPr>
            <a:xfrm>
              <a:off x="6427800" y="1479600"/>
              <a:ext cx="2125800" cy="1990800"/>
            </a:xfrm>
            <a:prstGeom prst="ellipse">
              <a:avLst/>
            </a:prstGeom>
            <a:noFill/>
            <a:ln w="158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27800" y="2470320"/>
              <a:ext cx="2117880" cy="0"/>
            </a:xfrm>
            <a:prstGeom prst="line">
              <a:avLst/>
            </a:prstGeom>
            <a:ln w="158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8131320" y="1679040"/>
              <a:ext cx="0" cy="1581480"/>
            </a:xfrm>
            <a:prstGeom prst="line">
              <a:avLst/>
            </a:prstGeom>
            <a:ln w="158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69280" y="2454120"/>
              <a:ext cx="41040" cy="39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11320" y="2509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15480" y="3244680"/>
              <a:ext cx="41040" cy="39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082720" y="3298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10160" y="2454120"/>
              <a:ext cx="41400" cy="39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88760" y="24163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28040" y="2454120"/>
              <a:ext cx="41400" cy="39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27400" y="23781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15480" y="1665360"/>
              <a:ext cx="4104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92520" y="1409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115480" y="2454120"/>
              <a:ext cx="41040" cy="39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90720" y="25099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440080" y="4141800"/>
            <a:ext cx="470700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925560" y="844560"/>
            <a:ext cx="1901160" cy="480600"/>
            <a:chOff x="925560" y="844560"/>
            <a:chExt cx="1901160" cy="480600"/>
          </a:xfrm>
        </p:grpSpPr>
        <p:sp>
          <p:nvSpPr>
            <p:cNvPr id="83" name=""/>
            <p:cNvSpPr/>
            <p:nvPr/>
          </p:nvSpPr>
          <p:spPr>
            <a:xfrm>
              <a:off x="925560" y="863280"/>
              <a:ext cx="1677600" cy="461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lin ang="5400000"/>
            </a:gradFill>
            <a:ln w="19080">
              <a:solidFill>
                <a:srgbClr val="ff0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36080" y="844560"/>
              <a:ext cx="17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证明猜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 flipV="1">
            <a:off x="7408800" y="3122280"/>
            <a:ext cx="657360" cy="771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94400" y="3894120"/>
            <a:ext cx="671760" cy="771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20720" y="1258920"/>
            <a:ext cx="7727760" cy="1191240"/>
            <a:chOff x="720720" y="1258920"/>
            <a:chExt cx="7727760" cy="1191240"/>
          </a:xfrm>
        </p:grpSpPr>
        <p:sp>
          <p:nvSpPr>
            <p:cNvPr id="88" name=""/>
            <p:cNvSpPr/>
            <p:nvPr/>
          </p:nvSpPr>
          <p:spPr>
            <a:xfrm>
              <a:off x="720720" y="1258920"/>
              <a:ext cx="77277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已知：在⊙</a:t>
              </a:r>
              <a:r>
                <a:rPr b="1" lang="zh-CN" sz="2400" spc="-1" strike="noStrike">
                  <a:solidFill>
                    <a:srgbClr val="ff0000"/>
                  </a:solidFill>
                  <a:latin typeface="EU-BX"/>
                  <a:ea typeface="EU-BX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中，</a:t>
              </a:r>
              <a:r>
                <a:rPr b="1" lang="zh-CN" sz="2400" spc="-1" strike="noStrike">
                  <a:solidFill>
                    <a:srgbClr val="ff0000"/>
                  </a:solidFill>
                  <a:latin typeface="EU-BX"/>
                  <a:ea typeface="EU-BX"/>
                </a:rPr>
                <a:t>CD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是直径，</a:t>
              </a:r>
              <a:r>
                <a:rPr b="1" lang="zh-CN" sz="2400" spc="-1" strike="noStrike">
                  <a:solidFill>
                    <a:srgbClr val="ff0000"/>
                  </a:solidFill>
                  <a:latin typeface="EU-BX"/>
                  <a:ea typeface="EU-BX"/>
                </a:rPr>
                <a:t>AB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是弦，</a:t>
              </a:r>
              <a:r>
                <a:rPr b="1" lang="zh-CN" sz="2400" spc="-1" strike="noStrike">
                  <a:solidFill>
                    <a:srgbClr val="ff0000"/>
                  </a:solidFill>
                  <a:latin typeface="EU-BX"/>
                  <a:ea typeface="EU-BX"/>
                </a:rPr>
                <a:t>CD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⊥</a:t>
              </a:r>
              <a:r>
                <a:rPr b="1" lang="zh-CN" sz="2400" spc="-1" strike="noStrike">
                  <a:solidFill>
                    <a:srgbClr val="ff0000"/>
                  </a:solidFill>
                  <a:latin typeface="EU-BX"/>
                  <a:ea typeface="EU-BX"/>
                </a:rPr>
                <a:t>AB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，垂足为</a:t>
              </a:r>
              <a:r>
                <a:rPr b="1" lang="zh-CN" sz="2400" spc="-1" strike="noStrike">
                  <a:solidFill>
                    <a:srgbClr val="ff0000"/>
                  </a:solidFill>
                  <a:latin typeface="EU-BX"/>
                  <a:ea typeface="EU-BX"/>
                </a:rPr>
                <a:t>E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.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求证：</a:t>
              </a:r>
              <a:r>
                <a:rPr b="1" lang="zh-CN" sz="2400" spc="-1" strike="noStrike">
                  <a:solidFill>
                    <a:srgbClr val="ff0000"/>
                  </a:solidFill>
                  <a:latin typeface="EU-BX"/>
                  <a:ea typeface="EU-BX"/>
                </a:rPr>
                <a:t>AE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＝</a:t>
              </a:r>
              <a:r>
                <a:rPr b="1" lang="zh-CN" sz="2400" spc="-1" strike="noStrike">
                  <a:solidFill>
                    <a:srgbClr val="ff0000"/>
                  </a:solidFill>
                  <a:latin typeface="EU-BX"/>
                  <a:ea typeface="EU-BX"/>
                </a:rPr>
                <a:t>BE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，                    相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rcRect l="43714" t="-8924" r="0" b="0"/>
            <a:stretch/>
          </p:blipFill>
          <p:spPr>
            <a:xfrm>
              <a:off x="3669840" y="1903320"/>
              <a:ext cx="2422080" cy="51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6125400" y="2832120"/>
            <a:ext cx="2576160" cy="2163960"/>
            <a:chOff x="6125400" y="2832120"/>
            <a:chExt cx="2576160" cy="2163960"/>
          </a:xfrm>
        </p:grpSpPr>
        <p:sp>
          <p:nvSpPr>
            <p:cNvPr id="91" name=""/>
            <p:cNvSpPr/>
            <p:nvPr/>
          </p:nvSpPr>
          <p:spPr>
            <a:xfrm>
              <a:off x="6364440" y="2901960"/>
              <a:ext cx="2125440" cy="1990800"/>
            </a:xfrm>
            <a:prstGeom prst="ellipse">
              <a:avLst/>
            </a:prstGeom>
            <a:noFill/>
            <a:ln w="158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64440" y="3892680"/>
              <a:ext cx="2117520" cy="0"/>
            </a:xfrm>
            <a:prstGeom prst="line">
              <a:avLst/>
            </a:prstGeom>
            <a:ln w="158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067600" y="3102120"/>
              <a:ext cx="0" cy="1581120"/>
            </a:xfrm>
            <a:prstGeom prst="line">
              <a:avLst/>
            </a:prstGeom>
            <a:ln w="158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05560" y="3876840"/>
              <a:ext cx="41400" cy="39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47960" y="3932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51760" y="4667400"/>
              <a:ext cx="41400" cy="39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19360" y="472140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6800" y="3876840"/>
              <a:ext cx="41400" cy="39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25400" y="38386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64680" y="3876840"/>
              <a:ext cx="41040" cy="39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63680" y="38005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51760" y="3087720"/>
              <a:ext cx="4140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28800" y="283212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51760" y="3876840"/>
              <a:ext cx="41400" cy="396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27000" y="39322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-BX"/>
                  <a:ea typeface="EU-BX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71560" y="2757600"/>
            <a:ext cx="4992840" cy="35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25640" y="2930400"/>
            <a:ext cx="76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垂直于弦的直径平分这条弦，并且平分这条弦所对的两条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58760" y="1730520"/>
            <a:ext cx="231624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垂径定理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4520" y="151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判断下列图形，能否使用垂径定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9200" y="3625920"/>
            <a:ext cx="146160" cy="12060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0" y="15"/>
                </a:moveTo>
                <a:cubicBezTo>
                  <a:pt x="38" y="7"/>
                  <a:pt x="76" y="0"/>
                  <a:pt x="91" y="15"/>
                </a:cubicBezTo>
                <a:cubicBezTo>
                  <a:pt x="106" y="30"/>
                  <a:pt x="91" y="90"/>
                  <a:pt x="91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503520"/>
            <a:ext cx="145800" cy="12060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0" y="15"/>
                </a:moveTo>
                <a:cubicBezTo>
                  <a:pt x="38" y="7"/>
                  <a:pt x="76" y="0"/>
                  <a:pt x="91" y="15"/>
                </a:cubicBezTo>
                <a:cubicBezTo>
                  <a:pt x="106" y="30"/>
                  <a:pt x="91" y="90"/>
                  <a:pt x="91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86320" y="3565440"/>
            <a:ext cx="146160" cy="12060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0" y="15"/>
                </a:moveTo>
                <a:cubicBezTo>
                  <a:pt x="38" y="7"/>
                  <a:pt x="76" y="0"/>
                  <a:pt x="91" y="15"/>
                </a:cubicBezTo>
                <a:cubicBezTo>
                  <a:pt x="106" y="30"/>
                  <a:pt x="91" y="90"/>
                  <a:pt x="91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200" y="4307040"/>
            <a:ext cx="8521560" cy="1491840"/>
          </a:xfrm>
          <a:prstGeom prst="wedgeRoundRectCallout">
            <a:avLst>
              <a:gd name="adj1" fmla="val -30148"/>
              <a:gd name="adj2" fmla="val -127995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定理中两个条件（直径垂直于弦）缺一不可，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三个图均不能，仅第四个图可以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824040"/>
            <a:ext cx="1901160" cy="480600"/>
            <a:chOff x="914400" y="824040"/>
            <a:chExt cx="1901160" cy="480600"/>
          </a:xfrm>
        </p:grpSpPr>
        <p:sp>
          <p:nvSpPr>
            <p:cNvPr id="115" name=""/>
            <p:cNvSpPr/>
            <p:nvPr/>
          </p:nvSpPr>
          <p:spPr>
            <a:xfrm>
              <a:off x="914400" y="842760"/>
              <a:ext cx="1677600" cy="461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lin ang="5400000"/>
            </a:gradFill>
            <a:ln w="19080">
              <a:solidFill>
                <a:srgbClr val="ff0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24920" y="824040"/>
              <a:ext cx="17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定理辨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039680" y="2374920"/>
            <a:ext cx="1548720" cy="1865880"/>
            <a:chOff x="1039680" y="2374920"/>
            <a:chExt cx="1548720" cy="1865880"/>
          </a:xfrm>
        </p:grpSpPr>
        <p:sp>
          <p:nvSpPr>
            <p:cNvPr id="118" name=""/>
            <p:cNvSpPr/>
            <p:nvPr/>
          </p:nvSpPr>
          <p:spPr>
            <a:xfrm>
              <a:off x="1076400" y="2565360"/>
              <a:ext cx="1442880" cy="1397160"/>
            </a:xfrm>
            <a:prstGeom prst="ellipse">
              <a:avLst/>
            </a:prstGeom>
            <a:noFill/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84400" y="3621240"/>
              <a:ext cx="1217520" cy="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30280" y="2660760"/>
              <a:ext cx="0" cy="119700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73360" y="3240000"/>
              <a:ext cx="48960" cy="47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70920" y="31827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5480" y="3745080"/>
              <a:ext cx="48960" cy="45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65320" y="3602160"/>
              <a:ext cx="4896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39680" y="36687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82840" y="3602160"/>
              <a:ext cx="493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19920" y="36687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1200" y="2641680"/>
              <a:ext cx="4788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55680" y="237492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1200" y="3838680"/>
              <a:ext cx="4788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66840" y="390528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898720" y="2571840"/>
            <a:ext cx="1443240" cy="1396800"/>
          </a:xfrm>
          <a:prstGeom prst="ellipse">
            <a:avLst/>
          </a:prstGeom>
          <a:noFill/>
          <a:ln w="1908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06720" y="3627360"/>
            <a:ext cx="1217520" cy="0"/>
          </a:xfrm>
          <a:prstGeom prst="line">
            <a:avLst/>
          </a:prstGeom>
          <a:ln w="1908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52960" y="2666880"/>
            <a:ext cx="715680" cy="1197000"/>
          </a:xfrm>
          <a:prstGeom prst="line">
            <a:avLst/>
          </a:prstGeom>
          <a:ln w="1908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95680" y="3246480"/>
            <a:ext cx="49320" cy="4752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93240" y="3189240"/>
            <a:ext cx="16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EU-BX"/>
                <a:ea typeface="EU-BX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87800" y="3751200"/>
            <a:ext cx="49320" cy="4608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3608280"/>
            <a:ext cx="49320" cy="4788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62000" y="3675240"/>
            <a:ext cx="16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EU-BX"/>
                <a:ea typeface="EU-BX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05160" y="3608280"/>
            <a:ext cx="49320" cy="4788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42600" y="3675240"/>
            <a:ext cx="16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EU-BX"/>
                <a:ea typeface="EU-BX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9560" y="2647800"/>
            <a:ext cx="49320" cy="4788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59000" y="2314440"/>
            <a:ext cx="16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EU-BX"/>
                <a:ea typeface="EU-BX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3844800"/>
            <a:ext cx="47520" cy="47880"/>
          </a:xfrm>
          <a:prstGeom prst="ellipse">
            <a:avLst/>
          </a:prstGeom>
          <a:solidFill>
            <a:srgbClr val="ffffff"/>
          </a:solidFill>
          <a:ln w="0">
            <a:solidFill>
              <a:srgbClr val="01010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89160" y="3911760"/>
            <a:ext cx="16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EU-BX"/>
                <a:ea typeface="EU-BX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22760" y="2619360"/>
            <a:ext cx="1548720" cy="1438920"/>
            <a:chOff x="4622760" y="2619360"/>
            <a:chExt cx="1548720" cy="1438920"/>
          </a:xfrm>
        </p:grpSpPr>
        <p:sp>
          <p:nvSpPr>
            <p:cNvPr id="147" name=""/>
            <p:cNvSpPr/>
            <p:nvPr/>
          </p:nvSpPr>
          <p:spPr>
            <a:xfrm>
              <a:off x="4659480" y="2619360"/>
              <a:ext cx="1442880" cy="1398600"/>
            </a:xfrm>
            <a:prstGeom prst="ellipse">
              <a:avLst/>
            </a:prstGeom>
            <a:noFill/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67120" y="3675240"/>
              <a:ext cx="1217880" cy="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376960" y="3314520"/>
              <a:ext cx="0" cy="36036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56080" y="3295800"/>
              <a:ext cx="49320" cy="45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53640" y="32385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48200" y="3798720"/>
              <a:ext cx="49320" cy="47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8040" y="3656160"/>
              <a:ext cx="493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22760" y="37227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5920" y="3656160"/>
              <a:ext cx="4896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03000" y="37227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6080" y="3656160"/>
              <a:ext cx="493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48160" y="371304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376680" y="2314440"/>
            <a:ext cx="1528920" cy="2066040"/>
            <a:chOff x="6376680" y="2314440"/>
            <a:chExt cx="1528920" cy="2066040"/>
          </a:xfrm>
        </p:grpSpPr>
        <p:sp>
          <p:nvSpPr>
            <p:cNvPr id="160" name=""/>
            <p:cNvSpPr/>
            <p:nvPr/>
          </p:nvSpPr>
          <p:spPr>
            <a:xfrm>
              <a:off x="6462720" y="2619360"/>
              <a:ext cx="1442880" cy="1397160"/>
            </a:xfrm>
            <a:prstGeom prst="ellipse">
              <a:avLst/>
            </a:prstGeom>
            <a:noFill/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21400" y="3589200"/>
              <a:ext cx="1158840" cy="21924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7042320" y="2629080"/>
              <a:ext cx="274320" cy="1368360"/>
            </a:xfrm>
            <a:prstGeom prst="line">
              <a:avLst/>
            </a:prstGeom>
            <a:ln w="1908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59680" y="3294000"/>
              <a:ext cx="493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57240" y="32367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51800" y="3798720"/>
              <a:ext cx="49320" cy="47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02320" y="3570120"/>
              <a:ext cx="49320" cy="47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76680" y="363708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61160" y="3789360"/>
              <a:ext cx="493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98600" y="38559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97560" y="2610000"/>
              <a:ext cx="4932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58040" y="231444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240" y="3978360"/>
              <a:ext cx="4896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7840" y="4044960"/>
              <a:ext cx="16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81920" y="3675240"/>
              <a:ext cx="48960" cy="475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54040" y="1536840"/>
            <a:ext cx="769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如图，已知在圆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，弦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长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，圆心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距离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圆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半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19800" y="2300400"/>
            <a:ext cx="83808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005240" y="2022480"/>
            <a:ext cx="317880" cy="811080"/>
            <a:chOff x="7005240" y="2022480"/>
            <a:chExt cx="317880" cy="811080"/>
          </a:xfrm>
        </p:grpSpPr>
        <p:sp>
          <p:nvSpPr>
            <p:cNvPr id="178" name=""/>
            <p:cNvSpPr/>
            <p:nvPr/>
          </p:nvSpPr>
          <p:spPr>
            <a:xfrm flipV="1">
              <a:off x="7154640" y="2300040"/>
              <a:ext cx="0" cy="533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05240" y="2022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EU-BX"/>
                  <a:ea typeface="EU-BX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186600" y="1862280"/>
            <a:ext cx="1933560" cy="19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38880" y="2319480"/>
            <a:ext cx="1628640" cy="14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29440" y="2805120"/>
            <a:ext cx="4752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1200" y="286056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-BX"/>
                <a:ea typeface="EU-BX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9800" y="2300400"/>
            <a:ext cx="4752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520" y="210996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-BX"/>
                <a:ea typeface="EU-BX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48440" y="2300400"/>
            <a:ext cx="4788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17640" y="213048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U-BX"/>
                <a:ea typeface="EU-BX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0400" y="3359160"/>
            <a:ext cx="52261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题意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cm , 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O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⊥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, 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OE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Rt△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OE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，根据勾股定理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O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OE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E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4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EU-BX"/>
                <a:ea typeface="EU-BX"/>
              </a:rPr>
              <a:t>AO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5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32928" r="0" b="0"/>
          <a:stretch/>
        </p:blipFill>
        <p:spPr>
          <a:xfrm>
            <a:off x="1004760" y="804960"/>
            <a:ext cx="1995480" cy="51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0520" y="2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20" y="2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81240" y="1098720"/>
            <a:ext cx="54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变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B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什么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04960" y="2382840"/>
            <a:ext cx="41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变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A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B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依然成立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467160"/>
            <a:ext cx="56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变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EA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____, EC=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051000" y="3571920"/>
            <a:ext cx="2287440" cy="462960"/>
            <a:chOff x="3051000" y="3571920"/>
            <a:chExt cx="2287440" cy="462960"/>
          </a:xfrm>
        </p:grpSpPr>
        <p:sp>
          <p:nvSpPr>
            <p:cNvPr id="196" name=""/>
            <p:cNvSpPr/>
            <p:nvPr/>
          </p:nvSpPr>
          <p:spPr>
            <a:xfrm>
              <a:off x="4646520" y="3571920"/>
              <a:ext cx="6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EU-BX"/>
                  <a:ea typeface="EU-BX"/>
                </a:rPr>
                <a:t>F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51000" y="3575160"/>
              <a:ext cx="69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EU-BX"/>
                  <a:ea typeface="EU-BX"/>
                </a:rPr>
                <a:t>F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581200" y="4797360"/>
            <a:ext cx="5614920" cy="642600"/>
            <a:chOff x="2581200" y="4797360"/>
            <a:chExt cx="5614920" cy="642600"/>
          </a:xfrm>
        </p:grpSpPr>
        <p:sp>
          <p:nvSpPr>
            <p:cNvPr id="199" name=""/>
            <p:cNvSpPr/>
            <p:nvPr/>
          </p:nvSpPr>
          <p:spPr>
            <a:xfrm>
              <a:off x="2581200" y="4797360"/>
              <a:ext cx="561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变式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：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______AC=B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79280" y="4924440"/>
              <a:ext cx="638640" cy="191880"/>
            </a:xfrm>
            <a:prstGeom prst="rightArrow">
              <a:avLst>
                <a:gd name="adj1" fmla="val 50000"/>
                <a:gd name="adj2" fmla="val 83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551400" y="4902120"/>
            <a:ext cx="15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EU-BX"/>
                <a:ea typeface="EU-BX"/>
              </a:rPr>
              <a:t>OA=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573280" y="5111640"/>
            <a:ext cx="4510080" cy="642600"/>
            <a:chOff x="2573280" y="5111640"/>
            <a:chExt cx="4510080" cy="642600"/>
          </a:xfrm>
        </p:grpSpPr>
        <p:sp>
          <p:nvSpPr>
            <p:cNvPr id="203" name=""/>
            <p:cNvSpPr/>
            <p:nvPr/>
          </p:nvSpPr>
          <p:spPr>
            <a:xfrm>
              <a:off x="2573280" y="5111640"/>
              <a:ext cx="451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变式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5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：</a:t>
              </a:r>
              <a:r>
                <a:rPr b="1" lang="zh-CN" sz="2400" spc="-1" strike="noStrike" u="sng">
                  <a:solidFill>
                    <a:srgbClr val="0000ff"/>
                  </a:solidFill>
                  <a:uFillTx/>
                  <a:latin typeface="宋体"/>
                </a:rPr>
                <a:t>______</a:t>
              </a:r>
              <a:r>
                <a:rPr b="1" lang="zh-CN" sz="2400" spc="-1" strike="noStrike">
                  <a:solidFill>
                    <a:srgbClr val="0000ff"/>
                  </a:solidFill>
                  <a:latin typeface="EU-BX"/>
                  <a:ea typeface="EU-BX"/>
                </a:rPr>
                <a:t>AC=BD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81320" y="5234040"/>
              <a:ext cx="513000" cy="185400"/>
            </a:xfrm>
            <a:prstGeom prst="rightArrow">
              <a:avLst>
                <a:gd name="adj1" fmla="val 50000"/>
                <a:gd name="adj2" fmla="val 691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H="1">
            <a:off x="2935440" y="514836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985680" y="812880"/>
            <a:ext cx="1253880" cy="480600"/>
            <a:chOff x="985680" y="812880"/>
            <a:chExt cx="1253880" cy="480600"/>
          </a:xfrm>
        </p:grpSpPr>
        <p:sp>
          <p:nvSpPr>
            <p:cNvPr id="207" name=""/>
            <p:cNvSpPr/>
            <p:nvPr/>
          </p:nvSpPr>
          <p:spPr>
            <a:xfrm>
              <a:off x="985680" y="831600"/>
              <a:ext cx="1106280" cy="461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lin ang="5400000"/>
            </a:gradFill>
            <a:ln w="19080">
              <a:solidFill>
                <a:srgbClr val="ff0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58760" y="812880"/>
              <a:ext cx="118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归纳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27280" y="52592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EU-BX"/>
                <a:ea typeface="EU-BX"/>
              </a:rPr>
              <a:t>OC=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65040" y="4241880"/>
            <a:ext cx="2378880" cy="1611360"/>
            <a:chOff x="365040" y="4241880"/>
            <a:chExt cx="2378880" cy="1611360"/>
          </a:xfrm>
        </p:grpSpPr>
        <p:sp>
          <p:nvSpPr>
            <p:cNvPr id="211" name=""/>
            <p:cNvSpPr/>
            <p:nvPr/>
          </p:nvSpPr>
          <p:spPr>
            <a:xfrm>
              <a:off x="717480" y="4241880"/>
              <a:ext cx="1604880" cy="1611360"/>
            </a:xfrm>
            <a:prstGeom prst="ellipse">
              <a:avLst/>
            </a:prstGeom>
            <a:noFill/>
            <a:ln w="144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20840" y="4714920"/>
              <a:ext cx="2192040" cy="7920"/>
            </a:xfrm>
            <a:prstGeom prst="line">
              <a:avLst/>
            </a:prstGeom>
            <a:ln w="144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517760" y="4714920"/>
              <a:ext cx="1095120" cy="328680"/>
            </a:xfrm>
            <a:prstGeom prst="line">
              <a:avLst/>
            </a:prstGeom>
            <a:ln w="144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420480" y="4722480"/>
              <a:ext cx="1096920" cy="320760"/>
            </a:xfrm>
            <a:prstGeom prst="line">
              <a:avLst/>
            </a:prstGeom>
            <a:ln w="144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01920" y="502920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58000" y="503712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68560" y="559764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6440" y="4708440"/>
              <a:ext cx="34920" cy="36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040" y="443088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8840" y="4700520"/>
              <a:ext cx="36360" cy="36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13600" y="443880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8240" y="4708440"/>
              <a:ext cx="36720" cy="36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1080" y="439416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35240" y="4700520"/>
              <a:ext cx="36360" cy="36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00760" y="4387680"/>
              <a:ext cx="130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051600" y="4695840"/>
            <a:ext cx="1558080" cy="1484280"/>
            <a:chOff x="6051600" y="4695840"/>
            <a:chExt cx="1558080" cy="1484280"/>
          </a:xfrm>
        </p:grpSpPr>
        <p:sp>
          <p:nvSpPr>
            <p:cNvPr id="227" name=""/>
            <p:cNvSpPr/>
            <p:nvPr/>
          </p:nvSpPr>
          <p:spPr>
            <a:xfrm>
              <a:off x="6118200" y="4695840"/>
              <a:ext cx="1438200" cy="1484280"/>
            </a:xfrm>
            <a:prstGeom prst="ellipse">
              <a:avLst/>
            </a:prstGeom>
            <a:noFill/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145200" y="5222520"/>
              <a:ext cx="1379520" cy="4680"/>
            </a:xfrm>
            <a:prstGeom prst="line">
              <a:avLst/>
            </a:prstGeom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833880" y="5222880"/>
              <a:ext cx="461880" cy="212760"/>
            </a:xfrm>
            <a:prstGeom prst="line">
              <a:avLst/>
            </a:prstGeom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6373440" y="5227560"/>
              <a:ext cx="460440" cy="208080"/>
            </a:xfrm>
            <a:prstGeom prst="line">
              <a:avLst/>
            </a:prstGeom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373800" y="5222520"/>
              <a:ext cx="922320" cy="4680"/>
            </a:xfrm>
            <a:prstGeom prst="line">
              <a:avLst/>
            </a:prstGeom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26320" y="5425920"/>
              <a:ext cx="22320" cy="24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98960" y="543096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35840" y="5218200"/>
              <a:ext cx="23760" cy="23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51600" y="505476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15360" y="5213520"/>
              <a:ext cx="21960" cy="23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25080" y="504504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4440" y="5218200"/>
              <a:ext cx="23760" cy="23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79120" y="501660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86760" y="5213520"/>
              <a:ext cx="23760" cy="23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7440" y="5011560"/>
              <a:ext cx="84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423120" y="2777400"/>
            <a:ext cx="2112120" cy="1863000"/>
            <a:chOff x="6423120" y="2777400"/>
            <a:chExt cx="2112120" cy="1863000"/>
          </a:xfrm>
        </p:grpSpPr>
        <p:sp>
          <p:nvSpPr>
            <p:cNvPr id="243" name=""/>
            <p:cNvSpPr/>
            <p:nvPr/>
          </p:nvSpPr>
          <p:spPr>
            <a:xfrm>
              <a:off x="6837480" y="3056040"/>
              <a:ext cx="1314720" cy="1305000"/>
            </a:xfrm>
            <a:prstGeom prst="ellipse">
              <a:avLst/>
            </a:prstGeom>
            <a:noFill/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56320" y="2777400"/>
              <a:ext cx="1874880" cy="1863000"/>
            </a:xfrm>
            <a:prstGeom prst="ellipse">
              <a:avLst/>
            </a:prstGeom>
            <a:noFill/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591960" y="3439800"/>
              <a:ext cx="1798200" cy="5400"/>
            </a:xfrm>
            <a:prstGeom prst="line">
              <a:avLst/>
            </a:prstGeom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21080" y="3239640"/>
              <a:ext cx="945720" cy="938160"/>
            </a:xfrm>
            <a:prstGeom prst="ellipse">
              <a:avLst/>
            </a:prstGeom>
            <a:noFill/>
            <a:ln w="93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79720" y="3694680"/>
              <a:ext cx="29880" cy="27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41200" y="37004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81160" y="3434400"/>
              <a:ext cx="29520" cy="29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23120" y="344016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77200" y="3429000"/>
              <a:ext cx="29520" cy="27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43080" y="34700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8880" y="3434400"/>
              <a:ext cx="29520" cy="29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48200" y="347580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79480" y="3429000"/>
              <a:ext cx="29520" cy="27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43560" y="344556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71400" y="3429000"/>
              <a:ext cx="29880" cy="27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00840" y="34570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434400"/>
              <a:ext cx="29880" cy="29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75800" y="34646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365160" y="988920"/>
            <a:ext cx="2016000" cy="1687680"/>
            <a:chOff x="6365160" y="988920"/>
            <a:chExt cx="2016000" cy="1687680"/>
          </a:xfrm>
        </p:grpSpPr>
        <p:sp>
          <p:nvSpPr>
            <p:cNvPr id="262" name=""/>
            <p:cNvSpPr/>
            <p:nvPr/>
          </p:nvSpPr>
          <p:spPr>
            <a:xfrm>
              <a:off x="6773760" y="1241280"/>
              <a:ext cx="1222560" cy="1182960"/>
            </a:xfrm>
            <a:prstGeom prst="ellipse">
              <a:avLst/>
            </a:prstGeom>
            <a:noFill/>
            <a:ln w="11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13480" y="988920"/>
              <a:ext cx="1741680" cy="1687680"/>
            </a:xfrm>
            <a:prstGeom prst="ellipse">
              <a:avLst/>
            </a:prstGeom>
            <a:noFill/>
            <a:ln w="11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524640" y="1685520"/>
              <a:ext cx="1714320" cy="4680"/>
            </a:xfrm>
            <a:prstGeom prst="line">
              <a:avLst/>
            </a:prstGeom>
            <a:ln w="11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370640" y="181944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37520" y="182412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13480" y="167940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65160" y="16858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28160" y="167472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89000" y="171288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78800" y="1679400"/>
              <a:ext cx="2844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58560" y="171756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62840" y="1674720"/>
              <a:ext cx="270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23320" y="169056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86520" y="1863720"/>
            <a:ext cx="1957320" cy="1697040"/>
            <a:chOff x="686520" y="1863720"/>
            <a:chExt cx="1957320" cy="1697040"/>
          </a:xfrm>
        </p:grpSpPr>
        <p:sp>
          <p:nvSpPr>
            <p:cNvPr id="276" name=""/>
            <p:cNvSpPr/>
            <p:nvPr/>
          </p:nvSpPr>
          <p:spPr>
            <a:xfrm>
              <a:off x="1087560" y="2117880"/>
              <a:ext cx="1166760" cy="1188720"/>
            </a:xfrm>
            <a:prstGeom prst="ellipse">
              <a:avLst/>
            </a:prstGeom>
            <a:noFill/>
            <a:ln w="11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1863720"/>
              <a:ext cx="1665360" cy="1697040"/>
            </a:xfrm>
            <a:prstGeom prst="ellipse">
              <a:avLst/>
            </a:prstGeom>
            <a:noFill/>
            <a:ln w="11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2703600"/>
              <a:ext cx="1665360" cy="6120"/>
            </a:xfrm>
            <a:prstGeom prst="line">
              <a:avLst/>
            </a:prstGeom>
            <a:ln w="11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57440" y="2698920"/>
              <a:ext cx="27000" cy="26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25400" y="270360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8720" y="2693880"/>
              <a:ext cx="25200" cy="27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6520" y="269892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92280" y="2698920"/>
              <a:ext cx="27000" cy="26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51680" y="273672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76400" y="2698920"/>
              <a:ext cx="27000" cy="26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61200" y="273672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38480" y="2698920"/>
              <a:ext cx="27000" cy="266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97160" y="271476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EU-BX"/>
                  <a:ea typeface="EU-BX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25320" y="1384200"/>
            <a:ext cx="8045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⊙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弦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B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延长线上一点，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P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求⊙</a:t>
            </a:r>
            <a:r>
              <a:rPr b="1" lang="zh-CN" sz="2400" spc="-1" strike="noStrike">
                <a:solidFill>
                  <a:srgbClr val="000000"/>
                </a:solidFill>
                <a:latin typeface="EU-BX"/>
                <a:ea typeface="EU-BX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半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897160" y="2808360"/>
            <a:ext cx="160920" cy="876240"/>
            <a:chOff x="5897160" y="2808360"/>
            <a:chExt cx="160920" cy="876240"/>
          </a:xfrm>
        </p:grpSpPr>
        <p:sp>
          <p:nvSpPr>
            <p:cNvPr id="291" name=""/>
            <p:cNvSpPr/>
            <p:nvPr/>
          </p:nvSpPr>
          <p:spPr>
            <a:xfrm>
              <a:off x="5940360" y="3154320"/>
              <a:ext cx="1800" cy="530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97160" y="280836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EU-BX"/>
                  <a:ea typeface="EU-BX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3760" y="2808360"/>
            <a:ext cx="878040" cy="876240"/>
            <a:chOff x="5873760" y="2808360"/>
            <a:chExt cx="878040" cy="876240"/>
          </a:xfrm>
        </p:grpSpPr>
        <p:sp>
          <p:nvSpPr>
            <p:cNvPr id="294" name=""/>
            <p:cNvSpPr/>
            <p:nvPr/>
          </p:nvSpPr>
          <p:spPr>
            <a:xfrm flipH="1">
              <a:off x="5873760" y="3154320"/>
              <a:ext cx="827280" cy="530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50000" y="28083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816080" y="2664000"/>
            <a:ext cx="3634200" cy="1968480"/>
            <a:chOff x="4816080" y="2664000"/>
            <a:chExt cx="3634200" cy="1968480"/>
          </a:xfrm>
        </p:grpSpPr>
        <p:sp>
          <p:nvSpPr>
            <p:cNvPr id="297" name=""/>
            <p:cNvSpPr/>
            <p:nvPr/>
          </p:nvSpPr>
          <p:spPr>
            <a:xfrm flipH="1">
              <a:off x="5922720" y="3110040"/>
              <a:ext cx="2233440" cy="53028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95800" y="3110040"/>
              <a:ext cx="3060360" cy="1800"/>
            </a:xfrm>
            <a:prstGeom prst="line">
              <a:avLst/>
            </a:prstGeom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46400" y="2664000"/>
              <a:ext cx="1968120" cy="1968480"/>
            </a:xfrm>
            <a:prstGeom prst="ellipse">
              <a:avLst/>
            </a:prstGeom>
            <a:noFill/>
            <a:ln w="2844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89360" y="306072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EU-BX"/>
                  <a:ea typeface="EU-BX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16080" y="286236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EU-BX"/>
                  <a:ea typeface="EU-BX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81960" y="3656160"/>
              <a:ext cx="160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EU-BX"/>
                  <a:ea typeface="EU-BX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527040" y="4748040"/>
            <a:ext cx="7907400" cy="727560"/>
          </a:xfrm>
          <a:prstGeom prst="verticalScroll">
            <a:avLst>
              <a:gd name="adj" fmla="val 58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关于弦的问题，常常需要过圆心作弦的垂线段，这是一条非常重要的辅助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611280" y="2687760"/>
            <a:ext cx="3844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示作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M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垂直于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PB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连接</a:t>
            </a:r>
            <a:r>
              <a:rPr b="1" lang="zh-CN" sz="2400" spc="-1" strike="noStrike">
                <a:solidFill>
                  <a:srgbClr val="0000ff"/>
                </a:solidFill>
                <a:latin typeface="EU-BX"/>
                <a:ea typeface="EU-BX"/>
              </a:rPr>
              <a:t>OA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4960" y="3873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案：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66120" y="2797200"/>
            <a:ext cx="340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EU-BX"/>
                <a:ea typeface="EU-BX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549440" y="3909960"/>
          <a:ext cx="56988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3909960"/>
                    <a:ext cx="5698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" descr=""/>
          <p:cNvPicPr/>
          <p:nvPr/>
        </p:nvPicPr>
        <p:blipFill>
          <a:blip r:embed="rId3"/>
          <a:srcRect l="0" t="36206" r="0" b="0"/>
          <a:stretch/>
        </p:blipFill>
        <p:spPr>
          <a:xfrm>
            <a:off x="1068480" y="873000"/>
            <a:ext cx="2079360" cy="4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0:49:27Z</dcterms:created>
  <dc:creator>潍坊翰林轩文化有限公司</dc:creator>
  <dc:description/>
  <dc:language>en-US</dc:language>
  <cp:lastModifiedBy>User</cp:lastModifiedBy>
  <cp:lastPrinted>2001-09-13T10:59:37Z</cp:lastPrinted>
  <dcterms:modified xsi:type="dcterms:W3CDTF">2015-03-02T02:08:11Z</dcterms:modified>
  <cp:revision>20</cp:revision>
  <dc:subject/>
  <dc:title>幻灯片 1</dc:title>
</cp:coreProperties>
</file>